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AE9-5A7F-423C-B769-042016E5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FB6-DA27-4351-89C5-32C520A4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643-5D03-4F59-9F7C-AACA51B1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E8C-4BC5-49D1-9B00-6AB2D863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52E-F758-4E5E-BC78-FC60A9CB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B9D6-8F51-4D36-B2A9-556425F5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D37-0420-408B-BF80-8797E816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213-7B45-43D4-9B9C-1B65E87F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67E-D1A6-480E-AAED-EEBA6C12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709-E379-4EF3-9EC3-4F2B4E71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DA0-0590-4BA0-AB0E-F6E418E8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D6D-1B6D-4118-B1DA-167E5CEA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EC85-1765-4AA2-AA17-28BF208E3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-2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activate prior knowledge and gain background knowledge in order to better comprehend tex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35268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is this excerpt about? (I’m about to put it on the board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ANNOTATE and RESP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you read the article, record at LEAST five annot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n, in your RRJ respond to this 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new idea did you learn today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new idea did you learn today? 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imination RRJ 8-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new idea I learned today is that 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ow this to be true because the text mentioned “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, the text explained “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his idea helped me understand _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ns, Nouns, 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o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scovered Ame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hips:  Nina, pinta, santa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scovered the world was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er route- spices from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of Spain gave him money to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roved that the world was not f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uld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, sea mons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believed the Earth was egg-shaped and the top was parad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ts: Nina, pinta, santa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Christopher Columb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t- 3 boats: Nina, pinta, santa m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d native 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d the world was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jour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questione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your reading response journal, tell me all the things you already know about the topic of your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snowboarding, competition, sports, slavery, memory loss, fe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nish with your response, read quietly. I’ll will be conferencing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-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opic of my book is 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know this because… (2 pieces of Text Evidenc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the things I know about _____________ are: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helped me understand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8-3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activate prior knowledge and gain background knowledge in order to better comprehend tex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rite down ALL the words that pop into your head when you hear the word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scrimination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or Knowledge Graphic Organiz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LY, fill in the innermost circle with words you associate with DISCRI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talk with your group members and add their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he text as I read out loud.  I am going to show you how I annotat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 read, I write d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-effect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d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01:50:51Z</dcterms:created>
  <dc:creator>Administrator</dc:creator>
  <dc:description/>
  <dc:language>en-US</dc:language>
  <cp:lastModifiedBy>Administrator</cp:lastModifiedBy>
  <dcterms:modified xsi:type="dcterms:W3CDTF">2010-08-30T13:13:16Z</dcterms:modified>
  <cp:revision>9</cp:revision>
  <dc:subject/>
  <dc:title>Do Now 8-27 I can activate prior knowledge and gain background knowledge in order to better comprehend text. </dc:title>
</cp:coreProperties>
</file>